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E9DD-F6BF-40AC-90D8-F3C6D2D38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combined wit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E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form 4-carb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nzyme PEP carboxylase)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transported in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ndle-shea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ecarboxylated form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ters the Calvi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any.hawaii.edu/faculty/webb/bot311/bot311-00/psyn/PsynDark2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ssulacean acid metabolism (CA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irst discovered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assulac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mily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ta are closed during the day, so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only absorb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way at night,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way (Calvin cycle)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afety4sea.com/page/14377/3/progress-in-fuel-creation-from-carbon-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assel.unl.edu/pages/informationmodule.php?idinformationmodule=1092853841&amp;topicorder=5&amp;maxto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cbi.nlm.nih.gov/books/NBK22344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m.wikipedia.org/wiki/File:Simplified_photorespiration_diagram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6E5-B98E-4711-8AC3-CD1E517D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90E-84DE-4727-9DB8-792A54FE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CBC-3B7A-430C-BD82-E640C28C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20C-5345-4F1B-98B7-8B4AB4DC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08F-D184-40FE-BE11-2A2F2997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BF8-526D-479E-9618-039168FC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60F-9568-4248-9D8F-CD0E8EE4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2A3-43D5-4E28-8959-B0F3554B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B26-A5D3-47B9-B249-45839F30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B06-D911-4B8A-88B8-3F8A7BAC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230-BD37-4A9F-B743-A6765C79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B55-8FE3-487A-94AD-7A23665E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2091-113D-46A9-B2C8-A9A7CBD23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ic.edu/classes/bios/bios100/lectures/c4.htm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0271348/student_view0/chapter6/chapter_quiz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Mechanisms of Carbon Fix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85960" y="1981080"/>
            <a:ext cx="377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49200" y="1981080"/>
            <a:ext cx="664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52440" y="1981080"/>
            <a:ext cx="267516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13240" y="4114800"/>
            <a:ext cx="247968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800600" y="1981080"/>
            <a:ext cx="2092320" cy="19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7780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08280" y="1981080"/>
            <a:ext cx="552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557680" y="4114800"/>
            <a:ext cx="198612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846440" y="4114800"/>
            <a:ext cx="148896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989680" y="1981080"/>
            <a:ext cx="1127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M pl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ic.edu/classes/bios/bios100/lectures/c4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elf-quiz multiple choice quizzes from McGraw-Hill Ryer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0271348/student_view0/chapter6/chapter_quiz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sites/0073403474/student_view0/chapter5/pre-tes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plants ne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hotosynthe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4% of atmosphere i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is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43400" y="2505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plants need to limit water loss &amp; adapt to water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axy cu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70480" y="1676520"/>
            <a:ext cx="2517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ulose-1,5-bisphosph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xylase oxid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isCO catalyzes the first reaction of the Calvi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catalyze reaction between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19600" y="2209680"/>
            <a:ext cx="366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molecule of 3-P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duces a molecule that is not useful to the cell that must be removed in a series of reactions, which use ATP release 1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887400"/>
            <a:ext cx="89154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isCO has a higher affinity for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inds to it 75%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t &amp; dry clim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close &amp; relati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 decreases due to 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a pl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3:23:18Z</dcterms:created>
  <dc:creator>rubina khan</dc:creator>
  <dc:description/>
  <dc:language>en-US</dc:language>
  <cp:lastModifiedBy>rubina khan</cp:lastModifiedBy>
  <dcterms:modified xsi:type="dcterms:W3CDTF">2013-11-01T17:11:31Z</dcterms:modified>
  <cp:revision>125</cp:revision>
  <dc:subject/>
  <dc:title>Photosynthesis</dc:title>
</cp:coreProperties>
</file>